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291-B2FA-4F2E-9B43-4E18EDF4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DD2-AB76-4E24-9AE0-E16B87AA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D58-E31C-4446-88B4-7A5C25F0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DC5-00B3-48A1-B19A-11D231F6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C68-B14F-4724-97EE-BF3F7611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1CB-D6E4-4CF5-AD96-8E7403CC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E99D-8F77-4948-A6AE-445E45F3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2E1-C83C-439B-974A-050D7D0A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499B-2005-4D72-8079-78C40D55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0F0-7201-4854-8B0B-04270C48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C35-035E-431C-9121-4CBB481F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8EC-8555-466A-BEAE-CB234105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4CCF-A12F-433D-AF9B-32EDB1C9DD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entisorg.com/" TargetMode="External"/><Relationship Id="rId2" Type="http://schemas.openxmlformats.org/officeDocument/2006/relationships/hyperlink" Target="http://www.otispregnancy.org/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ардиоваскуларни лекови у трудноћи и лактациј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Лечење артеријске хипертензије у посебним груп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чење хипертензивне кри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f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ринарни тра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Глатки мишићи бубрежне карлице и уретре су релаксирани па су бубрежна карлица и уретра дилатиране. Бибрези се повећавају у дужину 1-1,5 цм док уретра постаје дужа, шира и више закривљена, па је волумен резидуалног урина повећ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Ралаксација мишића бешике повећава капацитет и ризик од уринарних инфекција ренални крвни проток и гломеруларна филтрациј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за 50%. Истовремено се ↑ клиренс креатинина и ↓ уреа у серу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од половине трудноћа, оштећена тубуларна ресорпција глукозе заједно са ↑ гломеруларне филтрације изазива гликозурију. Не очекује се губитак проте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Ниво ренина и алдостерона ↑ што изазива ретенцију соли и во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ематолошке пром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ој црвених крвних зрнаца се ↑, али свега за 1/3 плазма волумена што за последицу има ↓ хемоглобина већ при крају другог тримес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ој белих крвних зрнаца повећан, узрок непозн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иво неколико фактора згушњавања крви и фибриногена је повећан, док се фибринолитичка активност смањ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ком трудноће активност протеина Ц и С се постепено смању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румска алкална фосфатаза (плацентног порекла) повишена је, док се серумски албумин смањује са малим смањењем серумских глобулина. Ово доводи до промене у пропорцији албумин:глобул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ормонске (нерепродуктивне) пром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пофиза: ↓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SH/LH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ATCH, TSH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ланоцитни хормон и пролакт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дбубрежна жлезда: ↑ стероида, ↑ алдостерона и декортикостер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ироидна жлезда: жлезда се увећава услед  ↓ јода у плазми, ↑ Т3 и Т4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SH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 нормал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ком трудноће може се развити инсулинска резистенција која може прерасти у дијабете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тивност система ренин-ангиотензин, али се не одражава на крвни притис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Хемодинамске промене током нормалне трудноће, порођаја и постпорођајног пери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премина крв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чана фреквенц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нутни волуме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вни притиса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дарни волуме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истемска васкуларна резистен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28760" y="500040"/>
          <a:ext cx="8229600" cy="5953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емодинамски парамет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ме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ком нормалне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току порођа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ком постпорођајног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ремина кр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чана фреквен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5 удара/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утни волу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50% iznad normalnih vred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датних 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очетку услед ↑ </a:t>
                      </a: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load-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om  ↓ sa diurez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вни притис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m 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ratak na normalne vred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дарни волу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и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I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местар; благо ↓ током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II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трим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00-500 сс по контракциј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стемска васкуларна резист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ratak na normalne vred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Фактори који утичу на кинетику лекова код трудн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2920" y="1357200"/>
          <a:ext cx="8786880" cy="5394600"/>
        </p:xfrm>
        <a:graphic>
          <a:graphicData uri="http://schemas.openxmlformats.org/drawingml/2006/table">
            <a:tbl>
              <a:tblPr/>
              <a:tblGrid>
                <a:gridCol w="2000160"/>
                <a:gridCol w="678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за фармако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инетике л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рактеристичне проме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орп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естерона у плазми → ↓ интестинални мотилитет →↑ време пражњења желуца и црева за 30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удачне киселине и секреије доводи до ↑ желудачне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utnog volumena i udisajnog protoka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ulmonarnu resorpciju le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трибу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терећење волуменом за 50% може изменити волумен дистрибуције лека; укупно средње повећање воде у телу мајке је 8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40% - ткиво мајке, 60% плацента, фетус и амнионска течнос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зивање за протеине плаз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ој расположивих рецептора (рецептори су заузети стероидним и плацентним хормоним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поалбуминемија, ↓ везивање прот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имин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мене у нивоу ендогених супстанци могу изазвати ↑ и ↓ елиминацију лекова путем јетре (индукција или инхибиција микрозомалних ензима јетр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ални проток плазме ↑ за 25-50% →гломеруларна филтрација  ↑ за 50% → бубрежна елиминација лека 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актори који утичу на кинетику лекова код фету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2920" y="928800"/>
          <a:ext cx="8786880" cy="5668920"/>
        </p:xfrm>
        <a:graphic>
          <a:graphicData uri="http://schemas.openxmlformats.org/drawingml/2006/table">
            <a:tbl>
              <a:tblPr/>
              <a:tblGrid>
                <a:gridCol w="1785960"/>
                <a:gridCol w="7000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за фармако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инетике л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рактеристичне проме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орп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 слободни (невезани) лекови могу прећи плацент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јонизовани молекули, као и молекули веома растворљиви у липидима пролазе биолошке мембране много брже од јонизованих молекула нерастворљивих у липид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јчинска и фетална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је важна детерминанта за трансфер кроз плаценту нарочито за слабо киселе и базне лек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трибу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овина феталне циркулације (умбиликална вена) директно снабдева срце и мозак заобилазећи јет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зивање за протеине плаз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финитет лекова за феталне протеине плазме може бити смањен (ампицилин) или повећан 8салицилати) у односу на протеине мај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имин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иминација лекова код фетуса подразумева повратак лека дифузијом у циркулацију мај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ка истраживања су показала да су фетус и плацента способни да сами метаболишу лек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ћина лекова се елиминише у амнионску течност с обзиром на то да се бубрези фетуса налазе у фази сазрев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рисна пит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 ли је узимање лека неопходно, имајући у виду тежину обољења и значај терапије за здравље и живот мајк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 ли лек може деловати штетно на развој фетус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 ли нека фармакодинамијска дејства лекова утичу на ток трудноће и порођај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ко физиолошке промене у организму мајке током трудноће утичу на фармакокинетику и следствено томе, на дозирање изабраног ле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тицај адренергичке стимулације и блокаде на физиологију трудница и фет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229600" cy="3301920"/>
        </p:xfrm>
        <a:graphic>
          <a:graphicData uri="http://schemas.openxmlformats.org/drawingml/2006/table">
            <a:tbl>
              <a:tblPr/>
              <a:tblGrid>
                <a:gridCol w="2743200"/>
                <a:gridCol w="1371600"/>
                <a:gridCol w="1371600"/>
                <a:gridCol w="1371600"/>
                <a:gridCol w="13716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имул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лок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рецеп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рецеп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рецеп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рецеп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чана фреквенција фе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ћана фреквенција трудни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биликални крвни про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ност миометрију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ен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екламп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абетал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идралаз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агонисти калцијумских кан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гнезијум-сулф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онична есенцијална хупертен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лфа-метил-до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абетал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федип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естациона хипертен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4429080" y="357120"/>
            <a:ext cx="4500720" cy="216684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liberandum est saepe, statuendum seme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rum omnium magister usu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алвуларне болести ср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трална стеноза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ибрилација или тахиаритм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гокс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ета блока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трална регургитација и аортна регурги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епар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ромбоза дубоких вена и плућна ембол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рфарин контраиндикован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chondrodysplasia punctat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тичка атрофија фетуса, ментална ретардациј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па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скомолекуларни хепар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00000"/>
                </a:solidFill>
                <a:latin typeface="Calibri"/>
              </a:rPr>
              <a:t>Фолна киселина у дози мањој од 0,5</a:t>
            </a:r>
            <a:r>
              <a:rPr b="1" lang="sr-Latn-CS" sz="3200" spc="-1" strike="noStrike">
                <a:solidFill>
                  <a:srgbClr val="c00000"/>
                </a:solidFill>
                <a:latin typeface="Calibri"/>
              </a:rPr>
              <a:t>m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лфа-метил-до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Лидока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Сота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Индапам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итроглице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милори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Далтеп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Еноксип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адроп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Ревип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Клопидогр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Тикло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Тирофиба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434880"/>
          <a:ext cx="8229600" cy="5851800"/>
        </p:xfrm>
        <a:graphic>
          <a:graphicData uri="http://schemas.openxmlformats.org/drawingml/2006/table">
            <a:tbl>
              <a:tblPr/>
              <a:tblGrid>
                <a:gridCol w="1371600"/>
                <a:gridCol w="1886040"/>
                <a:gridCol w="385740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-метил-до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мпатиколитик, антихипертензив првог избора код труд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гућ поремећај сна; смањење обима главе без пратећих неуролошких секвела и менталне ретардације; могућа хипотензија прва два дана жив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дока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аритмик, локални анесте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удије на животињама и људим показале су да нема тератогено ни токсично дејство; велике дозе могу изазвати депресију респирације код неонатуса; парацервикална и епидурална анестезија  може бити узрок хипотоније и брадикардије неона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та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блокатор, антиаритмик, антихипертенз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је тератоген код животиња; нема адекватних хуманих студ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214200"/>
          <a:ext cx="8229600" cy="6218280"/>
        </p:xfrm>
        <a:graphic>
          <a:graphicData uri="http://schemas.openxmlformats.org/drawingml/2006/table">
            <a:tbl>
              <a:tblPr/>
              <a:tblGrid>
                <a:gridCol w="1471680"/>
                <a:gridCol w="1785960"/>
                <a:gridCol w="385740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апам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уретик, сличан тиазидним диуретиц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је тератоген код животиња; нема адекватних хуманих студ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, у терми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троглице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зодилат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ема феталних оштећења; могућа је хипотензија, фетална брадикардија; делује токолитички и релаксан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илор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уретик, штеди кал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је забележено тератогено дејство; описана хипоспадија ако се користи током првог триместра и блага ретардација раста ако се примењује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лтепа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оксипа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ропар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випа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парин мале молекулске теж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 забележених нежељених ни тератогених дејстава; може се рутински примењивати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1596960"/>
          <a:ext cx="8229600" cy="3475080"/>
        </p:xfrm>
        <a:graphic>
          <a:graphicData uri="http://schemas.openxmlformats.org/drawingml/2006/table">
            <a:tbl>
              <a:tblPr/>
              <a:tblGrid>
                <a:gridCol w="1471680"/>
                <a:gridCol w="1785960"/>
                <a:gridCol w="385740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опидогр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тори агрегације тромбоц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 забележених нежелјених ни тератогених дејстава; примећена је токсичност тиклодипина код животиња, нема података за хуману трудноћ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кло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рофиб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Ц</a:t>
            </a: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разос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Доксазос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Урапид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Теразос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Хеп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спирин (&lt;150 мг/да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бциксима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Стрептокин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лтеплаз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Буметран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Фуросем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Дигокс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Метилдигокс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Етилеф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Допам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Добутам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Епинефрин (адренали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Ц</a:t>
            </a: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Гемфиброз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Ципрофибр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Езетими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ентаеритритил тетранитр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Изосорбид 5-мононитр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Молсидом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ентоксифил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Мексиле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ропафено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Ц</a:t>
            </a: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ропрано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Метопро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тено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Бетаксо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Бисопро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ебиво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Карведи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мло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ифе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имо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изол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итрен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Лаци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Леркани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Верапам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Дилтиаз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3"/>
          <p:cNvSpPr/>
          <p:nvPr/>
        </p:nvSpPr>
        <p:spPr>
          <a:xfrm>
            <a:off x="4429080" y="357120"/>
            <a:ext cx="4500720" cy="216684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zmisliti treba više puta, odlučiti jedamp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ksa je učitelj svem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71280" y="71280"/>
          <a:ext cx="9001440" cy="6786720"/>
        </p:xfrm>
        <a:graphic>
          <a:graphicData uri="http://schemas.openxmlformats.org/drawingml/2006/table">
            <a:tbl>
              <a:tblPr/>
              <a:tblGrid>
                <a:gridCol w="1609920"/>
                <a:gridCol w="2031840"/>
                <a:gridCol w="4262400"/>
                <a:gridCol w="1097280"/>
              </a:tblGrid>
              <a:tr h="129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зо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ксазо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апид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азо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лфа адренергичких рецеп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су тератогени код експерименталних животиња; при великим дозама телесна тежина на рођењу је смањена; нису примећена нежељена дејства код фе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па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коагула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оје подаци о вези између кардиолошких дефеката и примене лека у првом триместру; повећана инциденца спонтаних побачаја, мртворођених; код трудница крварење и остеопен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пирин у дози &lt; 150 мг/д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тори агрегације тромбоц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е дозе $0-150 мг/дан) не представљају ризик за фетус, код трудница могућа анемија, хеморагија, вертиго, тинитус, главобоље, хипервентилација, продужено трајање порођа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мал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циксима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епоручује се примена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 по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434880"/>
          <a:ext cx="8229600" cy="5765760"/>
        </p:xfrm>
        <a:graphic>
          <a:graphicData uri="http://schemas.openxmlformats.org/drawingml/2006/table">
            <a:tbl>
              <a:tblPr/>
              <a:tblGrid>
                <a:gridCol w="1371600"/>
                <a:gridCol w="2028960"/>
                <a:gridCol w="371448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ептоки-н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тепл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мболит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су пријављена нежељена дејства код фе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ма-л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метан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уретици Хенлеове петљ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мбриоцидни у великим доз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росем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ћана производља урина код фетуса – користи се за процену бубрежне функције; могућа веза са појавом хипоспад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гок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илдигок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икозиди дигитал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а тежина на рођењу, превремени порођа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мфибро-з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профи-б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брати, хиполипем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тератоген и токсичан; људи 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rre-Robin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ov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дром и абнормалности можданих 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7200" y="434880"/>
          <a:ext cx="8229600" cy="5943600"/>
        </p:xfrm>
        <a:graphic>
          <a:graphicData uri="http://schemas.openxmlformats.org/drawingml/2006/table">
            <a:tbl>
              <a:tblPr/>
              <a:tblGrid>
                <a:gridCol w="1471680"/>
                <a:gridCol w="1785960"/>
                <a:gridCol w="385740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тилеф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тропни лек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же повећати утероплацентну перфузију, релаксацију утеруса; не треба га користити током првог трим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а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смањена утероплацентална перфузија; лјуди – нема одговарајућих студија, фетална и неонатална нежељена дејства нису пријавњ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бута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није тератог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пинефрин (адренали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оје контрадикторне информације о мањим и већим конгениталним малформацијама током првог триместра; повећана инциденца ингвиналне херн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14200" y="434880"/>
          <a:ext cx="8715600" cy="5673960"/>
        </p:xfrm>
        <a:graphic>
          <a:graphicData uri="http://schemas.openxmlformats.org/drawingml/2006/table">
            <a:tbl>
              <a:tblPr/>
              <a:tblGrid>
                <a:gridCol w="1559160"/>
                <a:gridCol w="1890720"/>
                <a:gridCol w="4086000"/>
                <a:gridCol w="117972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зетими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полипем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 одговарајућих студ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великим доз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нтаери-трит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сорбид-динит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сорбид 5-мононит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зодилататори, органски нитра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ембриотоксичан, фетотоксичан; људи – фетална оштећења, хипертензија код труд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сидо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зодилата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нтоксифи-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зодилататор, перифер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ије тератоген али је фетотоксичан; има канцерогени потенцијал; људи постоје подаци о КВС дефектима, 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ina bifid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току првог трим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57200" y="285840"/>
          <a:ext cx="8229600" cy="6400800"/>
        </p:xfrm>
        <a:graphic>
          <a:graphicData uri="http://schemas.openxmlformats.org/drawingml/2006/table">
            <a:tbl>
              <a:tblPr/>
              <a:tblGrid>
                <a:gridCol w="1542960"/>
                <a:gridCol w="1714680"/>
                <a:gridCol w="385740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ксиле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аритм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ије тератоген; људи – ограничени подаци, није забележено оштећење фе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пафен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аритм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ије тератоген, али је ембриотоксичан; људи – ограничени пода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прано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про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ено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ксо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сопро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биво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веди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бета адренергичких рецеп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ије тератоген, у великим дозама је ембриотоксичан; људи – у другом и трећем триместру у великим дозама може изазвати ретардацију раста, феталну брадикардију, хипогликемију, хипокалцемију праћену конвулзијама, полицитемију, хипербилирубинемију, тромбоцитопенију, респираторну депресију, продужено трајање порођаја и малу тежину на рођењ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71280" y="71280"/>
          <a:ext cx="9001440" cy="6683400"/>
        </p:xfrm>
        <a:graphic>
          <a:graphicData uri="http://schemas.openxmlformats.org/drawingml/2006/table">
            <a:tbl>
              <a:tblPr/>
              <a:tblGrid>
                <a:gridCol w="1845000"/>
                <a:gridCol w="1083960"/>
                <a:gridCol w="4853160"/>
                <a:gridCol w="121932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ло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-ри калцију-мских кан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ије тератоген али је ембриотоксичан; људи не постоје пода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фе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тератоген и ембриотоксичан; људи – КВС дефекти праћени ретардацијом раста (други-трећи триместа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мо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ол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трен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ци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ркани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тератоген и фетотоксичан; људи – нема одговарајућих контролисаних клиничких студ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 по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апам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ије тератоген али је фетотоксичан; људи – комплетни срчани блок и смрт фетуса у комбинацији са дигоксином; код мајке може изазвати хипотензију праћену феталном хипоксиј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лтиаз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тератоген и фетотоксичан; људи – КВС дефекти током првог трим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миода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спирин (&gt;150 мг/да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Спиронолакт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Хидрохлортиаз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Лосар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Валсарта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Капто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Енала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Лизино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еридон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Рами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Квина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Цилаза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Фосинопри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1280" y="71280"/>
          <a:ext cx="9001440" cy="6715440"/>
        </p:xfrm>
        <a:graphic>
          <a:graphicData uri="http://schemas.openxmlformats.org/drawingml/2006/table">
            <a:tbl>
              <a:tblPr/>
              <a:tblGrid>
                <a:gridCol w="1500480"/>
                <a:gridCol w="1714320"/>
                <a:gridCol w="4567320"/>
                <a:gridCol w="1219320"/>
              </a:tblGrid>
              <a:tr h="1230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иодар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аритм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тардација раста, превремени порођај, конгенитални хипотиреоидизам, струма, пролазна фетална брадикардија са продуженим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T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а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пирин, пуна доза, &gt; 150 мг/д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тори агрегације тромбоц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лика доза у трећем триместру изазива превремено затварање 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ctus arteriosus-a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плућну хипертензију, ретардацију раста, перинатално крварење, смрт фе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ронолакт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уретик који штеди калијум, антагонист алдосте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аиндикован током трудноће због антиандрогеног ефекта на фет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дрохлортиаз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уретик, тиаз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погликемија, неонатална тромбоцитопенија и хемолитичка анемија, фетална брадикардија, фетална смрт, неонатална хипотонија и хипонатремија; код трудница – хипотензија, хипокалиемија, делују на утерус и онемогућавају порођа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, у терми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434880"/>
          <a:ext cx="8229600" cy="5565960"/>
        </p:xfrm>
        <a:graphic>
          <a:graphicData uri="http://schemas.openxmlformats.org/drawingml/2006/table">
            <a:tbl>
              <a:tblPr/>
              <a:tblGrid>
                <a:gridCol w="1542960"/>
                <a:gridCol w="1714680"/>
                <a:gridCol w="3857400"/>
                <a:gridCol w="1114560"/>
              </a:tblGrid>
              <a:tr h="1508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пто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ала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зино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дон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ми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ина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лаза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сино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гениталне малформације, ретардација раста, превремени порођај, превремено затварање 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ctus arteriosus-a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неонатална хипотензија, ренална инсуфицијенција, анемија, абнормалности мишићно-скелетног система, смрт фе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сар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лсар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агонисти рецептора за ангиотензин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ksični i teratogeni kod životinja; treba ih izbegavati u trudnoć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Варфар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ценокумаро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Симваста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Ловаста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раваста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Флуваста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торвастат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прошлом веку за многа медицинска стања сматрало се да представљају контраиндикацију за трудноћ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преци у акушерству, неонатологији, акушерској анестезиологији и општој медицинској струци повећали су шансу за успешан исход трудноће, како за мајку тако и за фету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457200" y="1171440"/>
          <a:ext cx="8229600" cy="4114800"/>
        </p:xfrm>
        <a:graphic>
          <a:graphicData uri="http://schemas.openxmlformats.org/drawingml/2006/table">
            <a:tbl>
              <a:tblPr/>
              <a:tblGrid>
                <a:gridCol w="1471680"/>
                <a:gridCol w="1785960"/>
                <a:gridCol w="385740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фа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коагула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гениталне малформације, варфаринска ембриопатија, фетална хеморагија, поремећаји формирања костију, абнормалност Ц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мваста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васта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аста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луваста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орваста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тор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MG Co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дуктаз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атогени и токсични потенцијал испоњен у студијама на животињама; не постоје подаци о примени лека код љу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рисне </a:t>
            </a:r>
            <a:r>
              <a:rPr b="0" i="1" lang="sr-Latn-CS" sz="4400" spc="-1" strike="noStrike">
                <a:solidFill>
                  <a:srgbClr val="000000"/>
                </a:solidFill>
                <a:latin typeface="Calibri"/>
              </a:rPr>
              <a:t>web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ранице интерн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ntisorg.com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otispregnancy.org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рофија миокарда леве комо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калцијумских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симптоматска атеросклер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калцијумских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икроалбуминур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убрежна инсуфицијен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 случаају ранијег можданог уда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и антихипертенз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 случају ранијег инфаркта миокар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ета блока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нгина пектори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3143160"/>
            <a:ext cx="82296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ета блока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калцијумских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рчана инсуфицијен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урет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ета блока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тагонисти алдостер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Количина лека која долази до фетуса </a:t>
            </a:r>
            <a:br>
              <a:rPr sz="3600"/>
            </a:br>
            <a:r>
              <a:rPr b="0" i="1" lang="sr-Latn-RS" sz="3600" spc="-1" strike="noStrike">
                <a:solidFill>
                  <a:srgbClr val="000000"/>
                </a:solidFill>
                <a:latin typeface="Calibri"/>
              </a:rPr>
              <a:t>in utero</a:t>
            </a:r>
            <a:r>
              <a:rPr b="0" i="1" lang="sr-R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естацијски пери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олекулска тежина (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лекови чија је молекулска тежина &lt;400 Далтона, пролазе брже од високо нејонизованих и липофилних лекова; већина лекова 250-400 Далтон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тепен везиванја за протеине пла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ток крви кроз мајчин организам и фет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сположива површина плаценте преко које се врши размена кр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таболичка активност пла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тријална фибрил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ета блока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хидродипириди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убрежна инсуфицијенција/протеинур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9998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уретици Хенлеове пет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ортна стен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ст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нгестивна срчана слаб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ашаљ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пресија, ментална обољ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ијабетес, пре-дијабет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сулинска резистен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ремећаји лип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олошке промене у нормалној трудноћ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рдиоваскуларн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спираторни тр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строинтестинални тр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инарни тр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матолошке пром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ормонске (нерепродуктивне) пром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их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бострана стеноза бубрежних артер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ериферне артеријске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чење артеријске хипертензије у посебним група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чење артеријске хипертензије код деце и адолесцен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чење артеријске хипертензије код старих осо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чење артеријске хипертензије у трудноћ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чење акутног хипертензивног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индр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дукција средњег артеријског притиска не већа од 10-15%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дукција вредности дијастолног притиска до 110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mHg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периоду од једног ч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Раније препоруке: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дукција средњег артеријског притиска од 20-25% у периоду од једне минуте  до једног часа, односно смањење до вредности 160/100-110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mmHg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у наредних два до шест час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начајна редукција средњег артеријског притиска непожељ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нална хипоперфуз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ребрална хипоперфуз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ронарна хипоперфуз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ензија + срчана слаб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АЦЕ инхиби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еналаприлат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;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птопри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налаприлат 1,25-5,00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mg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дарна доза; каптоприл 12,5-25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15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4-6 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тензија, бубрежна инсуфицијен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Тешка акутна хипертензија – хитно снижење артеријског притис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NO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онор (артеријски и венски дилатато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натријум-нитро-прусид, инфу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0,3-2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μg/kg/min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жљив мониторинг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непосред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-2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тензија, наузеја, повраћање, цијанидна токсич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ензија + исхе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NO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оно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нитроглицер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инфу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5-100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g/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1-3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5-15 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лавобоља, повраћ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ензија + исхемија + тахикард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бета и алфа блокатори; бета блока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лабеталол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</a:rPr>
              <a:t>ударна доза, инфуз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;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смол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</a:rPr>
              <a:t>ударна доза, инфуз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абеталол: ударна доза 2-10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; инфуз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,5-30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g/kg/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5-10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-6 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узеја, повраћање, поремећаји спровођења, бронхоспа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ардиоваскуларни сист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инутни волумен ↑ за 30-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рчана фреквенца ↑ за 1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дарни волумен ↑ за 25-3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Дијастолни крвни притисак ↓ за 5-10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mm Hg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током 12-26 недеље, а онда се полако нормализује до 36 недељ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Венски притисак ↑ у каснијем периоду трудноће, па су вене проширене нарочито у ног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ериферни отпор ↓ ~2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Волумен плазме се у просеку ↑ за 50% до 30 недеље да би омогућио додатни проток крви до утеруса, исхрану и оксигенацију фетуса. Ово омогућава ↑ перфузију коже која уклања прекомерно грејање – последица је ↑ метаболизма као и ↑ гломеруларне филтрације. ↑ волумена компезује губитак крви током порођаја (обично 500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роток крви у бубрезима, кожи и мукоз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ензија без кардиолошких комплик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блокатор калцијумских кан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никардипин (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-10 mg/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5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10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-4 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флексна тахикардија, црвени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лигна хипертензија + лоша бубрежна функ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агонист допамин1 рецептора (директни вазодолататор и вазодилататор реналних артерија са натриуретским деловање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фенолдоп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0,2-0,5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/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g/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5-10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10-15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тензија, главобољ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ензија + феохромоци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ериферни ватодилататори; алфа и бета блока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фентолам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</a:rPr>
              <a:t>ударна до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;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абетал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</a:rPr>
              <a:t>ударна доза; инфуз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ентоламин 1-4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mg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дарна доз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1-2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3-5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флексна тахикард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еспираторни тра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пиларна дилатација изазива хиперемију горњих партија респираторног тракта што може ометати дисањ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дисајни волумен и степен вентилације повећавају за 20% потрошњу кисео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астроинтестинални тра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сни постају сунђерасте, трошне и склоне крваре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орушица код трудница је последица релаксације доњег езофагеалног сфинктера и смањене езофагеалне перисталт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елудачна секреција је обично ↓ али може бити и ↑ током првог тримес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стинални мотилитет је ↓ што омогућава повећану ресорпцију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учна кеса постаје хипотонична – смањено пражњење. Згушавање жучи омогућава формирање жучних каменчић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5-09-29T06:26:43Z</dcterms:modified>
  <cp:revision>6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